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439-6E83-4EEB-BB1C-F5A0F62D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5C2-1A4C-4EA4-B5C4-F212BA31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099-91E2-4FB5-867E-76718834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7E2-6E3C-423D-905E-0CF6DA55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1160-515B-4F7D-99F9-D764EBB6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CB0-B7B5-479A-BC2E-E3E26194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643D-484E-4A0A-AE12-10C639BE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84CF-BA66-4765-9C22-57FF93BB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0E58-859C-4F94-B32A-6FCACD4C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BE4C-DA60-49A0-A5B3-610CF7F0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ED92-03BD-4DD0-A333-6E99F90F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20D-E1E8-47BC-B8FB-9F446FC4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54FB-18A6-4954-96FC-13EE2F90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75A2-9445-4B84-85BC-7EFAE68E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5875-6EC4-4A36-BFF5-21F1E2DF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CC5F-7CD1-45AD-9C66-F011DDE8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FEDB-49ED-4AC0-8EE3-67EC348D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4B5-0186-4AD2-BE32-3F3DC0B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58D-BB7B-444E-9F4C-4A0C6C3D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1B9-7271-4736-BA0E-637D911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0A9-91B5-4F1F-A3CC-626A5622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89C-EFFE-4888-9A50-D03AD728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0D3-FD6F-4141-BB85-423619CF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130-7A71-436C-93C4-CB2B772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ompany 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743-8514-4E42-9AE3-E2CCE3D101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A276-0A5E-4EF8-96A7-EBED650F2B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7.wm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dvanced Rodent Technologies</a:t>
            </a:r>
            <a:br>
              <a:rPr sz="40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An Integrated Partnering Solution for </a:t>
            </a:r>
            <a:br>
              <a:rPr sz="2800"/>
            </a:b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Galactic Infestation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429000" y="3200400"/>
            <a:ext cx="2109960" cy="2666880"/>
            <a:chOff x="3429000" y="3200400"/>
            <a:chExt cx="2109960" cy="2666880"/>
          </a:xfrm>
        </p:grpSpPr>
        <p:sp>
          <p:nvSpPr>
            <p:cNvPr id="83" name=""/>
            <p:cNvSpPr/>
            <p:nvPr/>
          </p:nvSpPr>
          <p:spPr>
            <a:xfrm>
              <a:off x="3429000" y="3200400"/>
              <a:ext cx="2109960" cy="2666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3595680" y="3347640"/>
            <a:ext cx="1779480" cy="2361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95680" y="3347640"/>
                      <a:ext cx="1779480" cy="236196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3989880" y="58672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85680" y="2743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ent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6172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que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queak, squeak, squ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queak squ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queak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50292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47920" y="4495680"/>
            <a:ext cx="2438280" cy="1524240"/>
            <a:chOff x="1447920" y="4495680"/>
            <a:chExt cx="2438280" cy="1524240"/>
          </a:xfrm>
        </p:grpSpPr>
        <p:sp>
          <p:nvSpPr>
            <p:cNvPr id="92" name=""/>
            <p:cNvSpPr/>
            <p:nvPr/>
          </p:nvSpPr>
          <p:spPr>
            <a:xfrm>
              <a:off x="1447920" y="4495680"/>
              <a:ext cx="2438280" cy="1524240"/>
            </a:xfrm>
            <a:prstGeom prst="flowChartAlternateProcess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00200" y="4648320"/>
              <a:ext cx="99072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1828800" y="5562720"/>
              <a:ext cx="16765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2819520" y="4648320"/>
              <a:ext cx="8380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2057400" y="5029200"/>
              <a:ext cx="121932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486400" y="4267080"/>
            <a:ext cx="17413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1600200" cy="155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248520" y="1752480"/>
            <a:ext cx="2209680" cy="1838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rot="3182400">
            <a:off x="1477800" y="3779640"/>
            <a:ext cx="123516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23400" y="358128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u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90680" y="3733920"/>
            <a:ext cx="12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u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u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u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590920"/>
            <a:ext cx="3657600" cy="2666880"/>
          </a:xfrm>
          <a:prstGeom prst="irregularSeal2">
            <a:avLst/>
          </a:prstGeom>
          <a:solidFill>
            <a:srgbClr val="ffcc66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Squeak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7107 C 0.07413 -0.07871 0.075 -0.08241 0.07934 -0.08774 C 0.08472 -0.09445 0.08194 -0.0882 0.0868 -0.09699 C 0.09097 -0.1044 0.09444 -0.11111 0.0993 -0.11736 C 0.11354 -0.13635 0.09965 -0.12153 0.11406 -0.13588 C 0.11545 -0.13704 0.11788 -0.13959 0.11788 -0.13936 C 0.12135 -0.14723 0.13107 -0.1544 0.13646 -0.15996 C 0.14027 -0.16852 0.14566 -0.17269 0.15139 -0.17848 C 0.15382 -0.18102 0.15885 -0.18588 0.15885 -0.18565 C 0.16389 -0.19723 0.15816 -0.18611 0.16493 -0.19514 C 0.175 -0.20857 0.16857 -0.2044 0.17621 -0.20811 C 0.17899 -0.21459 0.18107 -0.21667 0.18611 -0.21922 C 0.19288 -0.23449 0.18385 -0.2169 0.19218 -0.22662 C 0.19757 -0.23264 0.20191 -0.24098 0.20711 -0.24699 C 0.21215 -0.25301 0.21805 -0.25625 0.22326 -0.26181 C 0.23298 -0.27223 0.24236 -0.28519 0.25416 -0.28959 C 0.28038 -0.31551 0.32482 -0.31598 0.35468 -0.31922 C 0.47326 -0.3176 0.45052 -0.32338 0.50833 -0.31366 C 0.51649 -0.30973 0.51927 -0.29792 0.52569 -0.29144 C 0.5276 -0.28334 0.5309 -0.27686 0.53316 -0.26922 C 0.53906 -0.24931 0.53264 -0.26505 0.53819 -0.25255 C 0.53993 -0.2426 0.54218 -0.23264 0.54427 -0.22292 C 0.54583 -0.21644 0.54427 -0.20926 0.54427 -0.20255 E">
                                      <p:cBhvr>
                                        <p:cTn id="74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19920" y="4724280"/>
          <a:ext cx="2514600" cy="18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4724280"/>
                    <a:ext cx="25146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419720" y="3352680"/>
            <a:ext cx="914400" cy="838440"/>
          </a:xfrm>
          <a:prstGeom prst="flowChartSummingJunction">
            <a:avLst/>
          </a:prstGeom>
          <a:solidFill>
            <a:srgbClr val="ffcc66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90720" y="2971800"/>
            <a:ext cx="3429000" cy="1449720"/>
            <a:chOff x="990720" y="2971800"/>
            <a:chExt cx="3429000" cy="1449720"/>
          </a:xfrm>
        </p:grpSpPr>
        <p:sp>
          <p:nvSpPr>
            <p:cNvPr id="111" name=""/>
            <p:cNvSpPr/>
            <p:nvPr/>
          </p:nvSpPr>
          <p:spPr>
            <a:xfrm>
              <a:off x="990720" y="3124080"/>
              <a:ext cx="2361960" cy="129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 rot="3182400">
              <a:off x="1751400" y="3048840"/>
              <a:ext cx="83952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352680" y="3809880"/>
              <a:ext cx="106704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638680" y="3124080"/>
            <a:ext cx="3124080" cy="1295280"/>
            <a:chOff x="5638680" y="3124080"/>
            <a:chExt cx="3124080" cy="1295280"/>
          </a:xfrm>
        </p:grpSpPr>
        <p:sp>
          <p:nvSpPr>
            <p:cNvPr id="115" name=""/>
            <p:cNvSpPr/>
            <p:nvPr/>
          </p:nvSpPr>
          <p:spPr>
            <a:xfrm>
              <a:off x="6705360" y="3124080"/>
              <a:ext cx="2057400" cy="129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7238880" y="3352680"/>
              <a:ext cx="9907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638680" y="3733560"/>
              <a:ext cx="10666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90720" y="4190760"/>
            <a:ext cx="3886200" cy="1752840"/>
            <a:chOff x="990720" y="4190760"/>
            <a:chExt cx="3886200" cy="1752840"/>
          </a:xfrm>
        </p:grpSpPr>
        <p:sp>
          <p:nvSpPr>
            <p:cNvPr id="119" name=""/>
            <p:cNvSpPr/>
            <p:nvPr/>
          </p:nvSpPr>
          <p:spPr>
            <a:xfrm>
              <a:off x="990720" y="4572000"/>
              <a:ext cx="236196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ahoma"/>
                </a:rPr>
                <a:t>Squeak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876920" y="4190760"/>
              <a:ext cx="0" cy="106668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680" y="5257800"/>
              <a:ext cx="152424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90720" y="1600200"/>
            <a:ext cx="3886200" cy="1751760"/>
            <a:chOff x="990720" y="1600200"/>
            <a:chExt cx="3886200" cy="1751760"/>
          </a:xfrm>
        </p:grpSpPr>
        <p:sp>
          <p:nvSpPr>
            <p:cNvPr id="123" name=""/>
            <p:cNvSpPr/>
            <p:nvPr/>
          </p:nvSpPr>
          <p:spPr>
            <a:xfrm>
              <a:off x="990720" y="1600200"/>
              <a:ext cx="236196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1676520" y="1828800"/>
              <a:ext cx="9666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352680" y="2286000"/>
              <a:ext cx="152424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76920" y="2285280"/>
              <a:ext cx="0" cy="106668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343400" y="3352680"/>
            <a:ext cx="1447920" cy="90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81480" y="1523880"/>
            <a:ext cx="2819520" cy="1295640"/>
          </a:xfrm>
          <a:prstGeom prst="wedgeEllipseCallout">
            <a:avLst>
              <a:gd name="adj1" fmla="val 29560"/>
              <a:gd name="adj2" fmla="val 231495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queak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02:48:18Z</dcterms:created>
  <dc:creator>Mouse</dc:creator>
  <dc:description/>
  <dc:language>en-US</dc:language>
  <cp:lastModifiedBy>Donald Craig</cp:lastModifiedBy>
  <dcterms:modified xsi:type="dcterms:W3CDTF">2004-09-19T23:06:35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Advanced Rodent Technologies3</vt:lpwstr>
  </property>
  <property fmtid="{D5CDD505-2E9C-101B-9397-08002B2CF9AE}" pid="3" name="LastUsedName">
    <vt:lpwstr>Advanced Rodent Technologies3</vt:lpwstr>
  </property>
</Properties>
</file>